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907588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94CB-C7BD-4A50-8D4D-AF4EC88BB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FC3B-4701-4E6E-9C13-CEDD9294D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7BFB-2C74-4E79-ABD2-20010BFE8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BE63-7362-4543-9F34-AC5AE0F55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8ABE-922D-49F0-BC9A-A8516B3CC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9DD9-AD7D-4597-B090-DD37779C8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7B35-FBDA-4AC8-ABCD-9D4CFB32A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9207-C14F-4386-9D5A-C96632EC2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BA14-D90A-4CBB-A149-E9D09A850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03CE-0DA1-4BD1-968D-2AF078C7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CD05-2C38-4B8F-A98F-CF9ADE86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F603-F3B5-4662-98E8-CC3B0FD0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40BE1-7C90-4A40-BD6A-1EC861B573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488880" y="1557360"/>
            <a:ext cx="9144000" cy="37501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ОРГАНИЗАЦИЯ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и КОНТРОЛ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РАБОТЫ ДО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ПО ОЗДОРОВЛЕНИ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ДЕ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488880" y="5661000"/>
            <a:ext cx="9144000" cy="5814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Заведующий структурным подразделением                    Ключникова Наталья Николае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200160" y="333360"/>
            <a:ext cx="9505800" cy="214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200160" y="333360"/>
            <a:ext cx="9289800" cy="12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Arial"/>
              </a:rPr>
              <a:t>государственное бюджетное общеобразовательное   учреждение Самарской области </a:t>
            </a:r>
            <a:br>
              <a:rPr sz="1200"/>
            </a:br>
            <a:r>
              <a:rPr b="1" lang="en-US" sz="1200" spc="-1" strike="noStrike">
                <a:solidFill>
                  <a:srgbClr val="0033cc"/>
                </a:solidFill>
                <a:latin typeface="Arial"/>
              </a:rPr>
              <a:t> средняя общеобразовательная школа №1 «Образовательный центр» п.г.т. Стройкерамика   муниципального района Волжский Самарской области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Arial"/>
              </a:rPr>
              <a:t>структурное подразделение «Детский сад «Солнышко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7"/>
          <p:cNvSpPr/>
          <p:nvPr/>
        </p:nvSpPr>
        <p:spPr>
          <a:xfrm>
            <a:off x="272880" y="642960"/>
            <a:ext cx="9433080" cy="8254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Контроль помещений детского сад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связанных с пребыванием де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200160" y="333360"/>
            <a:ext cx="9505800" cy="214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200160" y="333360"/>
            <a:ext cx="9289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«Детский сад «Солнышко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1332720" y="1675080"/>
            <a:ext cx="7387560" cy="4513320"/>
            <a:chOff x="1332720" y="1675080"/>
            <a:chExt cx="7387560" cy="4513320"/>
          </a:xfrm>
        </p:grpSpPr>
        <p:sp>
          <p:nvSpPr>
            <p:cNvPr id="220" name="_s39964"/>
            <p:cNvSpPr/>
            <p:nvPr/>
          </p:nvSpPr>
          <p:spPr>
            <a:xfrm flipH="1" flipV="1">
              <a:off x="3718800" y="3132720"/>
              <a:ext cx="655920" cy="40068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39963"/>
            <p:cNvSpPr/>
            <p:nvPr/>
          </p:nvSpPr>
          <p:spPr>
            <a:xfrm>
              <a:off x="2143440" y="2170440"/>
              <a:ext cx="1847520" cy="11286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Качеств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текуще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убор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39968"/>
            <p:cNvSpPr/>
            <p:nvPr/>
          </p:nvSpPr>
          <p:spPr>
            <a:xfrm flipH="1">
              <a:off x="3177000" y="3931200"/>
              <a:ext cx="928080" cy="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39967"/>
            <p:cNvSpPr/>
            <p:nvPr/>
          </p:nvSpPr>
          <p:spPr>
            <a:xfrm>
              <a:off x="1332720" y="3367440"/>
              <a:ext cx="1847520" cy="11286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Соблюд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частот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генеральны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уборо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39972"/>
            <p:cNvSpPr/>
            <p:nvPr/>
          </p:nvSpPr>
          <p:spPr>
            <a:xfrm flipH="1">
              <a:off x="3718800" y="4328640"/>
              <a:ext cx="655920" cy="40068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39971"/>
            <p:cNvSpPr/>
            <p:nvPr/>
          </p:nvSpPr>
          <p:spPr>
            <a:xfrm>
              <a:off x="2143440" y="4564440"/>
              <a:ext cx="1847520" cy="11286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беспеченнос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инвентарем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дез. средствам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39976"/>
            <p:cNvSpPr/>
            <p:nvPr/>
          </p:nvSpPr>
          <p:spPr>
            <a:xfrm>
              <a:off x="5025240" y="4492800"/>
              <a:ext cx="0" cy="56664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39975"/>
            <p:cNvSpPr/>
            <p:nvPr/>
          </p:nvSpPr>
          <p:spPr>
            <a:xfrm>
              <a:off x="4102560" y="5059800"/>
              <a:ext cx="1847520" cy="11286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Техническа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исправнос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борудования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инвентар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39970"/>
            <p:cNvSpPr/>
            <p:nvPr/>
          </p:nvSpPr>
          <p:spPr>
            <a:xfrm>
              <a:off x="5675760" y="4328640"/>
              <a:ext cx="655200" cy="40068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39969"/>
            <p:cNvSpPr/>
            <p:nvPr/>
          </p:nvSpPr>
          <p:spPr>
            <a:xfrm>
              <a:off x="6062040" y="4564440"/>
              <a:ext cx="1847520" cy="11286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Маркировка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мебели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инвентаря, бель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39962"/>
            <p:cNvSpPr/>
            <p:nvPr/>
          </p:nvSpPr>
          <p:spPr>
            <a:xfrm>
              <a:off x="5944680" y="3931200"/>
              <a:ext cx="928080" cy="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39954"/>
            <p:cNvSpPr/>
            <p:nvPr/>
          </p:nvSpPr>
          <p:spPr>
            <a:xfrm>
              <a:off x="6872760" y="3367440"/>
              <a:ext cx="1847520" cy="11286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Режи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роветривания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39974"/>
            <p:cNvSpPr/>
            <p:nvPr/>
          </p:nvSpPr>
          <p:spPr>
            <a:xfrm flipV="1">
              <a:off x="5675760" y="3132720"/>
              <a:ext cx="655200" cy="40068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39973"/>
            <p:cNvSpPr/>
            <p:nvPr/>
          </p:nvSpPr>
          <p:spPr>
            <a:xfrm>
              <a:off x="6062040" y="2170440"/>
              <a:ext cx="1847520" cy="11286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33cc"/>
                  </a:solidFill>
                  <a:latin typeface="Arial"/>
                </a:rPr>
                <a:t>Освещение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39961"/>
            <p:cNvSpPr/>
            <p:nvPr/>
          </p:nvSpPr>
          <p:spPr>
            <a:xfrm flipV="1">
              <a:off x="5025240" y="2801880"/>
              <a:ext cx="0" cy="56628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_s39953"/>
            <p:cNvSpPr/>
            <p:nvPr/>
          </p:nvSpPr>
          <p:spPr>
            <a:xfrm>
              <a:off x="4102560" y="1675080"/>
              <a:ext cx="1847520" cy="112860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Температур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воздух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39952"/>
            <p:cNvSpPr/>
            <p:nvPr/>
          </p:nvSpPr>
          <p:spPr>
            <a:xfrm>
              <a:off x="4102560" y="3368880"/>
              <a:ext cx="1847520" cy="1128960"/>
            </a:xfrm>
            <a:prstGeom prst="ellipse">
              <a:avLst/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0000"/>
                  </a:solidFill>
                  <a:latin typeface="Arial"/>
                </a:rPr>
                <a:t>Показатели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0000"/>
                  </a:solidFill>
                  <a:latin typeface="Arial"/>
                </a:rPr>
                <a:t>контроля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7"/>
          <p:cNvSpPr/>
          <p:nvPr/>
        </p:nvSpPr>
        <p:spPr>
          <a:xfrm>
            <a:off x="272880" y="836640"/>
            <a:ext cx="9433080" cy="55825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Оптимальное использование комплекса оздоровительных мероприятий в условиях дошкольного учреждения привело к определенным положительным результата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за период 2009 -2011гг. произошло увеличение количества детей со 2-ой группой – на 3% и снижение количества детей с 3-ей группой здоровья на 4,9%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за период 2009-2011гг. снизилось количество дней, пропущенных одним ребенком по болезни  (с 6,8 до 6,1), </a:t>
            </a:r>
            <a:r>
              <a:rPr b="1" lang="ru-RU" sz="1700" spc="-1" strike="noStrike">
                <a:solidFill>
                  <a:srgbClr val="0033cc"/>
                </a:solidFill>
                <a:latin typeface="Arial"/>
              </a:rPr>
              <a:t>что ниже среднего районного показателя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случаев заболеваний в 2011 году по сравнению с 2009 годом уменьшилось на 17 (с 192 до 175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-   в 2011 году снизилась заболеваемость на 1000 детей по сравнению с 2009 годом на 131 (с 1477 до 1346), что ниже среднего районного показат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200160" y="333360"/>
            <a:ext cx="9505800" cy="214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0" y="260280"/>
            <a:ext cx="92901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«Детский сад «Солнышко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7"/>
          <p:cNvSpPr/>
          <p:nvPr/>
        </p:nvSpPr>
        <p:spPr>
          <a:xfrm>
            <a:off x="200160" y="620640"/>
            <a:ext cx="9505800" cy="459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Сравнительный анализ заболеваемости на 1000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-6019920" y="-4800600"/>
            <a:ext cx="3343320" cy="2506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-6019920" y="-4800600"/>
            <a:ext cx="3343320" cy="25066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-6019920" y="-4800600"/>
            <a:ext cx="3343320" cy="25066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244" name="Rectangle 3"/>
          <p:cNvSpPr/>
          <p:nvPr/>
        </p:nvSpPr>
        <p:spPr>
          <a:xfrm>
            <a:off x="200160" y="333360"/>
            <a:ext cx="9505800" cy="214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200160" y="333360"/>
            <a:ext cx="928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МДОУ детский сад №4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849240" y="1844640"/>
          <a:ext cx="8410680" cy="3686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9240" y="1844640"/>
                    <a:ext cx="8410680" cy="36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Text Box 8"/>
          <p:cNvSpPr/>
          <p:nvPr/>
        </p:nvSpPr>
        <p:spPr>
          <a:xfrm>
            <a:off x="631800" y="5661000"/>
            <a:ext cx="8899560" cy="61236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999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Вывод: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с 2009 по 2011 год заболеваемость на одного ребенка снизилась на 131      (с 1477 до 1346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200160" y="692280"/>
            <a:ext cx="9418320" cy="5256000"/>
            <a:chOff x="200160" y="692280"/>
            <a:chExt cx="9418320" cy="5256000"/>
          </a:xfrm>
        </p:grpSpPr>
        <p:sp>
          <p:nvSpPr>
            <p:cNvPr id="46" name="_s2076"/>
            <p:cNvSpPr/>
            <p:nvPr/>
          </p:nvSpPr>
          <p:spPr>
            <a:xfrm>
              <a:off x="773280" y="692280"/>
              <a:ext cx="8375040" cy="986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Arial"/>
                </a:rPr>
                <a:t>Организационно-методическое и материально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990000"/>
                  </a:solidFill>
                  <a:latin typeface="Arial"/>
                </a:rPr>
                <a:t>обеспечение оздоровления дете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_s1033"/>
            <p:cNvSpPr/>
            <p:nvPr/>
          </p:nvSpPr>
          <p:spPr>
            <a:xfrm>
              <a:off x="2144880" y="2200320"/>
              <a:ext cx="1688760" cy="792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Рациональны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режи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1033"/>
            <p:cNvSpPr/>
            <p:nvPr/>
          </p:nvSpPr>
          <p:spPr>
            <a:xfrm>
              <a:off x="7831800" y="2200320"/>
              <a:ext cx="1688400" cy="783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Работ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с родителям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1033"/>
            <p:cNvSpPr/>
            <p:nvPr/>
          </p:nvSpPr>
          <p:spPr>
            <a:xfrm>
              <a:off x="5888520" y="2200320"/>
              <a:ext cx="1692360" cy="792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Форм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методическог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обще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1033"/>
            <p:cNvSpPr/>
            <p:nvPr/>
          </p:nvSpPr>
          <p:spPr>
            <a:xfrm>
              <a:off x="4015800" y="2200320"/>
              <a:ext cx="1690560" cy="792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Организац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пита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1033"/>
            <p:cNvSpPr/>
            <p:nvPr/>
          </p:nvSpPr>
          <p:spPr>
            <a:xfrm>
              <a:off x="200160" y="2200320"/>
              <a:ext cx="1690560" cy="792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Создание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услови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1033"/>
            <p:cNvSpPr/>
            <p:nvPr/>
          </p:nvSpPr>
          <p:spPr>
            <a:xfrm>
              <a:off x="200160" y="3355560"/>
              <a:ext cx="1688400" cy="2592720"/>
            </a:xfrm>
            <a:custGeom>
              <a:avLst/>
              <a:gdLst>
                <a:gd name="textAreaLeft" fmla="*/ 82080 w 1688400"/>
                <a:gd name="textAreaRight" fmla="*/ 1606320 w 1688400"/>
                <a:gd name="textAreaTop" fmla="*/ 82080 h 2592720"/>
                <a:gd name="textAreaBottom" fmla="*/ 2510640 h 2592720"/>
              </a:gdLst>
              <a:ahLst/>
              <a:rect l="textAreaLeft" t="textAreaTop" r="textAreaRight" b="textAreaBottom"/>
              <a:pathLst>
                <a:path w="21600" h="33167">
                  <a:moveTo>
                    <a:pt x="3600" y="0"/>
                  </a:moveTo>
                  <a:arcTo wR="3600" hR="3600" stAng="16200000" swAng="-5400000"/>
                  <a:lnTo>
                    <a:pt x="0" y="29567"/>
                  </a:lnTo>
                  <a:arcTo wR="3600" hR="3600" stAng="10800000" swAng="-5400000"/>
                  <a:lnTo>
                    <a:pt x="18000" y="331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Гибкий режим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-Оборудова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спортзала;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-Оборудовани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спортивны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уголков в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группах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Оборудова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спортивно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площадки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1033"/>
            <p:cNvSpPr/>
            <p:nvPr/>
          </p:nvSpPr>
          <p:spPr>
            <a:xfrm>
              <a:off x="2072520" y="3355560"/>
              <a:ext cx="1688760" cy="2592720"/>
            </a:xfrm>
            <a:custGeom>
              <a:avLst/>
              <a:gdLst>
                <a:gd name="textAreaLeft" fmla="*/ 82440 w 1688760"/>
                <a:gd name="textAreaRight" fmla="*/ 1606320 w 1688760"/>
                <a:gd name="textAreaTop" fmla="*/ 82440 h 2592720"/>
                <a:gd name="textAreaBottom" fmla="*/ 2510280 h 2592720"/>
              </a:gdLst>
              <a:ahLst/>
              <a:rect l="textAreaLeft" t="textAreaTop" r="textAreaRight" b="textAreaBottom"/>
              <a:pathLst>
                <a:path w="21600" h="33160">
                  <a:moveTo>
                    <a:pt x="3600" y="0"/>
                  </a:moveTo>
                  <a:arcTo wR="3600" hR="3600" stAng="16200000" swAng="-5400000"/>
                  <a:lnTo>
                    <a:pt x="0" y="29560"/>
                  </a:lnTo>
                  <a:arcTo wR="3600" hR="3600" stAng="10800000" swAng="-5400000"/>
                  <a:lnTo>
                    <a:pt x="18000" y="331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ru-RU" sz="1600" spc="-1" strike="noStrike">
                  <a:solidFill>
                    <a:srgbClr val="0033cc"/>
                  </a:solidFill>
                  <a:latin typeface="Arial"/>
                </a:rPr>
                <a:t>Зимне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33cc"/>
                  </a:solidFill>
                  <a:latin typeface="Arial"/>
                </a:rPr>
                <a:t>осенни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33cc"/>
                  </a:solidFill>
                  <a:latin typeface="Arial"/>
                </a:rPr>
                <a:t>-Работа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ru-RU" sz="1600" spc="-1" strike="noStrike">
                  <a:solidFill>
                    <a:srgbClr val="0033cc"/>
                  </a:solidFill>
                  <a:latin typeface="Arial"/>
                </a:rPr>
                <a:t>кружко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1033"/>
            <p:cNvSpPr/>
            <p:nvPr/>
          </p:nvSpPr>
          <p:spPr>
            <a:xfrm>
              <a:off x="3994200" y="3355560"/>
              <a:ext cx="1688760" cy="2592720"/>
            </a:xfrm>
            <a:custGeom>
              <a:avLst/>
              <a:gdLst>
                <a:gd name="textAreaLeft" fmla="*/ 82440 w 1688760"/>
                <a:gd name="textAreaRight" fmla="*/ 1606320 w 1688760"/>
                <a:gd name="textAreaTop" fmla="*/ 82440 h 2592720"/>
                <a:gd name="textAreaBottom" fmla="*/ 2510280 h 2592720"/>
              </a:gdLst>
              <a:ahLst/>
              <a:rect l="textAreaLeft" t="textAreaTop" r="textAreaRight" b="textAreaBottom"/>
              <a:pathLst>
                <a:path w="21600" h="33160">
                  <a:moveTo>
                    <a:pt x="3600" y="0"/>
                  </a:moveTo>
                  <a:arcTo wR="3600" hR="3600" stAng="16200000" swAng="-5400000"/>
                  <a:lnTo>
                    <a:pt x="0" y="29560"/>
                  </a:lnTo>
                  <a:arcTo wR="3600" hR="3600" stAng="10800000" swAng="-5400000"/>
                  <a:lnTo>
                    <a:pt x="18000" y="331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Режим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питания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Рационально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питание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-Второ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завтрак (соки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-Питьевой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режим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1033"/>
            <p:cNvSpPr/>
            <p:nvPr/>
          </p:nvSpPr>
          <p:spPr>
            <a:xfrm>
              <a:off x="5925960" y="3355560"/>
              <a:ext cx="1688400" cy="2592720"/>
            </a:xfrm>
            <a:custGeom>
              <a:avLst/>
              <a:gdLst>
                <a:gd name="textAreaLeft" fmla="*/ 82080 w 1688400"/>
                <a:gd name="textAreaRight" fmla="*/ 1606320 w 1688400"/>
                <a:gd name="textAreaTop" fmla="*/ 82080 h 2592720"/>
                <a:gd name="textAreaBottom" fmla="*/ 2510640 h 2592720"/>
              </a:gdLst>
              <a:ahLst/>
              <a:rect l="textAreaLeft" t="textAreaTop" r="textAreaRight" b="textAreaBottom"/>
              <a:pathLst>
                <a:path w="21600" h="33167">
                  <a:moveTo>
                    <a:pt x="3600" y="0"/>
                  </a:moveTo>
                  <a:arcTo wR="3600" hR="3600" stAng="16200000" swAng="-5400000"/>
                  <a:lnTo>
                    <a:pt x="0" y="29567"/>
                  </a:lnTo>
                  <a:arcTo wR="3600" hR="3600" stAng="10800000" swAng="-5400000"/>
                  <a:lnTo>
                    <a:pt x="18000" y="331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Педсоветы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Обмен опытом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работы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Семинары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Консультации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Изучени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програм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инновации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-Смотры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конкурсы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1033"/>
            <p:cNvSpPr/>
            <p:nvPr/>
          </p:nvSpPr>
          <p:spPr>
            <a:xfrm>
              <a:off x="7788960" y="3355560"/>
              <a:ext cx="1829520" cy="2592720"/>
            </a:xfrm>
            <a:custGeom>
              <a:avLst/>
              <a:gdLst>
                <a:gd name="textAreaLeft" fmla="*/ 89280 w 1829520"/>
                <a:gd name="textAreaRight" fmla="*/ 1740240 w 1829520"/>
                <a:gd name="textAreaTop" fmla="*/ 89280 h 2592720"/>
                <a:gd name="textAreaBottom" fmla="*/ 2503440 h 2592720"/>
              </a:gdLst>
              <a:ahLst/>
              <a:rect l="textAreaLeft" t="textAreaTop" r="textAreaRight" b="textAreaBottom"/>
              <a:pathLst>
                <a:path w="21600" h="30609">
                  <a:moveTo>
                    <a:pt x="3600" y="0"/>
                  </a:moveTo>
                  <a:arcTo wR="3600" hR="3600" stAng="16200000" swAng="-5400000"/>
                  <a:lnTo>
                    <a:pt x="0" y="27009"/>
                  </a:lnTo>
                  <a:arcTo wR="3600" hR="3600" stAng="10800000" swAng="-5400000"/>
                  <a:lnTo>
                    <a:pt x="18000" y="3060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Родительски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собрания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Анкетирование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Консультации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Совместны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праздники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-Дни открыты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дверей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-Выпус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газет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4881600" y="1628640"/>
            <a:ext cx="0" cy="5781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65240" y="1773360"/>
            <a:ext cx="763092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65240" y="1773360"/>
            <a:ext cx="0" cy="4316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08160" y="1773360"/>
            <a:ext cx="0" cy="4316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65240" y="3068640"/>
            <a:ext cx="0" cy="216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697960" y="1773360"/>
            <a:ext cx="0" cy="4316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681960" y="1773360"/>
            <a:ext cx="0" cy="4316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936880" y="3068640"/>
            <a:ext cx="0" cy="216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697960" y="3068640"/>
            <a:ext cx="0" cy="216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753240" y="3068640"/>
            <a:ext cx="0" cy="216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881600" y="3068640"/>
            <a:ext cx="0" cy="216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200160" y="333360"/>
            <a:ext cx="9505800" cy="214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200160" y="333360"/>
            <a:ext cx="9289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«Детский сад «Солнышко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7"/>
          <p:cNvSpPr/>
          <p:nvPr/>
        </p:nvSpPr>
        <p:spPr>
          <a:xfrm>
            <a:off x="488880" y="642960"/>
            <a:ext cx="9217080" cy="459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Схема оздоровительных мероприя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992160" y="1197000"/>
            <a:ext cx="8064000" cy="5400360"/>
            <a:chOff x="992160" y="1197000"/>
            <a:chExt cx="8064000" cy="5400360"/>
          </a:xfrm>
        </p:grpSpPr>
        <p:sp>
          <p:nvSpPr>
            <p:cNvPr id="72" name="_s1028"/>
            <p:cNvSpPr/>
            <p:nvPr/>
          </p:nvSpPr>
          <p:spPr>
            <a:xfrm flipH="1" flipV="1">
              <a:off x="3629880" y="2215080"/>
              <a:ext cx="1076400" cy="13593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1030"/>
            <p:cNvSpPr/>
            <p:nvPr/>
          </p:nvSpPr>
          <p:spPr>
            <a:xfrm flipH="1" flipV="1">
              <a:off x="2793960" y="2998080"/>
              <a:ext cx="1713240" cy="7228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1032"/>
            <p:cNvSpPr/>
            <p:nvPr/>
          </p:nvSpPr>
          <p:spPr>
            <a:xfrm flipH="1">
              <a:off x="2364840" y="3919680"/>
              <a:ext cx="206928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1034"/>
            <p:cNvSpPr/>
            <p:nvPr/>
          </p:nvSpPr>
          <p:spPr>
            <a:xfrm flipH="1">
              <a:off x="2706840" y="4119480"/>
              <a:ext cx="1800360" cy="759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1036"/>
            <p:cNvSpPr/>
            <p:nvPr/>
          </p:nvSpPr>
          <p:spPr>
            <a:xfrm flipH="1">
              <a:off x="3607200" y="4264920"/>
              <a:ext cx="1100880" cy="13939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1038"/>
            <p:cNvSpPr/>
            <p:nvPr/>
          </p:nvSpPr>
          <p:spPr>
            <a:xfrm>
              <a:off x="4982400" y="4318200"/>
              <a:ext cx="1800" cy="16524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1040"/>
            <p:cNvSpPr/>
            <p:nvPr/>
          </p:nvSpPr>
          <p:spPr>
            <a:xfrm>
              <a:off x="5256720" y="4264920"/>
              <a:ext cx="1105920" cy="13939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1042"/>
            <p:cNvSpPr/>
            <p:nvPr/>
          </p:nvSpPr>
          <p:spPr>
            <a:xfrm>
              <a:off x="5455440" y="4118040"/>
              <a:ext cx="1885320" cy="7938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1044"/>
            <p:cNvSpPr/>
            <p:nvPr/>
          </p:nvSpPr>
          <p:spPr>
            <a:xfrm>
              <a:off x="5529240" y="3918240"/>
              <a:ext cx="21535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1046"/>
            <p:cNvSpPr/>
            <p:nvPr/>
          </p:nvSpPr>
          <p:spPr>
            <a:xfrm flipV="1">
              <a:off x="5455440" y="2997720"/>
              <a:ext cx="1713240" cy="72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_s1048"/>
            <p:cNvSpPr/>
            <p:nvPr/>
          </p:nvSpPr>
          <p:spPr>
            <a:xfrm flipV="1">
              <a:off x="5254560" y="2215080"/>
              <a:ext cx="1076040" cy="13593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_s1050"/>
            <p:cNvSpPr/>
            <p:nvPr/>
          </p:nvSpPr>
          <p:spPr>
            <a:xfrm flipV="1">
              <a:off x="4982400" y="1823040"/>
              <a:ext cx="0" cy="16974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_s1029"/>
            <p:cNvSpPr/>
            <p:nvPr/>
          </p:nvSpPr>
          <p:spPr>
            <a:xfrm>
              <a:off x="2357640" y="1509480"/>
              <a:ext cx="1637280" cy="8658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Кварцевание групповых комна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1031"/>
            <p:cNvSpPr/>
            <p:nvPr/>
          </p:nvSpPr>
          <p:spPr>
            <a:xfrm>
              <a:off x="1335960" y="2456280"/>
              <a:ext cx="1637640" cy="8661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Консультации «Неболейкина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1033"/>
            <p:cNvSpPr/>
            <p:nvPr/>
          </p:nvSpPr>
          <p:spPr>
            <a:xfrm>
              <a:off x="992160" y="3486600"/>
              <a:ext cx="1637640" cy="8661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Профилактика ОРЗ, грипп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_s1035"/>
            <p:cNvSpPr/>
            <p:nvPr/>
          </p:nvSpPr>
          <p:spPr>
            <a:xfrm>
              <a:off x="1335960" y="4516560"/>
              <a:ext cx="1637640" cy="8658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Прогулки на свежем воздух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1037"/>
            <p:cNvSpPr/>
            <p:nvPr/>
          </p:nvSpPr>
          <p:spPr>
            <a:xfrm>
              <a:off x="2364840" y="5496480"/>
              <a:ext cx="1637640" cy="8661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Закалива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_s1039"/>
            <p:cNvSpPr/>
            <p:nvPr/>
          </p:nvSpPr>
          <p:spPr>
            <a:xfrm>
              <a:off x="4163400" y="5731200"/>
              <a:ext cx="1637640" cy="8661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Гимнастика после с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1041"/>
            <p:cNvSpPr/>
            <p:nvPr/>
          </p:nvSpPr>
          <p:spPr>
            <a:xfrm>
              <a:off x="5960160" y="5496480"/>
              <a:ext cx="1637640" cy="8661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Минут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релаксац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1043"/>
            <p:cNvSpPr/>
            <p:nvPr/>
          </p:nvSpPr>
          <p:spPr>
            <a:xfrm>
              <a:off x="6989040" y="4514760"/>
              <a:ext cx="1637640" cy="86616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Организация двигательной активнос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045"/>
            <p:cNvSpPr/>
            <p:nvPr/>
          </p:nvSpPr>
          <p:spPr>
            <a:xfrm>
              <a:off x="7418520" y="3484800"/>
              <a:ext cx="1637640" cy="8658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33cc"/>
                  </a:solidFill>
                  <a:latin typeface="Arial"/>
                </a:rPr>
                <a:t>Массаж </a:t>
              </a: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  </a:t>
              </a:r>
              <a:r>
                <a:rPr b="0" lang="ru-RU" sz="1400" spc="-1" strike="noStrike">
                  <a:solidFill>
                    <a:srgbClr val="0033cc"/>
                  </a:solidFill>
                  <a:latin typeface="Arial"/>
                </a:rPr>
                <a:t>по   А.А. Уманско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047"/>
            <p:cNvSpPr/>
            <p:nvPr/>
          </p:nvSpPr>
          <p:spPr>
            <a:xfrm>
              <a:off x="6989040" y="2454840"/>
              <a:ext cx="1637640" cy="86616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Пальчикова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гимнасти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049"/>
            <p:cNvSpPr/>
            <p:nvPr/>
          </p:nvSpPr>
          <p:spPr>
            <a:xfrm>
              <a:off x="5960160" y="1509480"/>
              <a:ext cx="1637640" cy="865800"/>
            </a:xfrm>
            <a:prstGeom prst="rect">
              <a:avLst/>
            </a:prstGeom>
            <a:blipFill rotWithShape="0">
              <a:blip r:embed="rId1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33cc"/>
                  </a:solidFill>
                  <a:latin typeface="Arial"/>
                </a:rPr>
                <a:t>Фито и арома 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33cc"/>
                  </a:solidFill>
                  <a:latin typeface="Arial"/>
                </a:rPr>
                <a:t>терап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051"/>
            <p:cNvSpPr/>
            <p:nvPr/>
          </p:nvSpPr>
          <p:spPr>
            <a:xfrm>
              <a:off x="4161960" y="1197000"/>
              <a:ext cx="1637280" cy="866160"/>
            </a:xfrm>
            <a:prstGeom prst="rect">
              <a:avLst/>
            </a:prstGeom>
            <a:blipFill rotWithShape="0">
              <a:blip r:embed="rId1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Утренняя гимнасти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052"/>
            <p:cNvSpPr/>
            <p:nvPr/>
          </p:nvSpPr>
          <p:spPr>
            <a:xfrm>
              <a:off x="3821400" y="3306960"/>
              <a:ext cx="2318400" cy="1224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00"/>
                  </a:solidFill>
                  <a:latin typeface="Arial"/>
                </a:rPr>
                <a:t>Физкультурно-оздоровительная работ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Rectangle 3"/>
          <p:cNvSpPr/>
          <p:nvPr/>
        </p:nvSpPr>
        <p:spPr>
          <a:xfrm>
            <a:off x="200160" y="333360"/>
            <a:ext cx="9505800" cy="214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200160" y="333360"/>
            <a:ext cx="9289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«Детский сад «Солнышко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_s1028"/>
          <p:cNvSpPr/>
          <p:nvPr/>
        </p:nvSpPr>
        <p:spPr>
          <a:xfrm>
            <a:off x="773280" y="692280"/>
            <a:ext cx="8375400" cy="985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рганизационно-методическое и материа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еспечение оздоровления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630720" y="692280"/>
            <a:ext cx="8646120" cy="5256000"/>
            <a:chOff x="630720" y="692280"/>
            <a:chExt cx="8646120" cy="5256000"/>
          </a:xfrm>
        </p:grpSpPr>
        <p:sp>
          <p:nvSpPr>
            <p:cNvPr id="101" name="_s1033"/>
            <p:cNvSpPr/>
            <p:nvPr/>
          </p:nvSpPr>
          <p:spPr>
            <a:xfrm>
              <a:off x="7399800" y="2200320"/>
              <a:ext cx="1877040" cy="804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Активны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отды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1033"/>
            <p:cNvSpPr/>
            <p:nvPr/>
          </p:nvSpPr>
          <p:spPr>
            <a:xfrm>
              <a:off x="5239800" y="2200320"/>
              <a:ext cx="1873080" cy="792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Систем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закалива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1033"/>
            <p:cNvSpPr/>
            <p:nvPr/>
          </p:nvSpPr>
          <p:spPr>
            <a:xfrm>
              <a:off x="2937240" y="2200320"/>
              <a:ext cx="1871280" cy="792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Оздоровительна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работ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1033"/>
            <p:cNvSpPr/>
            <p:nvPr/>
          </p:nvSpPr>
          <p:spPr>
            <a:xfrm>
              <a:off x="630720" y="2200320"/>
              <a:ext cx="1945440" cy="792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Система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двигательно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активност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1033"/>
            <p:cNvSpPr/>
            <p:nvPr/>
          </p:nvSpPr>
          <p:spPr>
            <a:xfrm>
              <a:off x="630720" y="3355560"/>
              <a:ext cx="1873080" cy="2592720"/>
            </a:xfrm>
            <a:custGeom>
              <a:avLst/>
              <a:gdLst>
                <a:gd name="textAreaLeft" fmla="*/ 91440 w 1873080"/>
                <a:gd name="textAreaRight" fmla="*/ 1781640 w 1873080"/>
                <a:gd name="textAreaTop" fmla="*/ 91440 h 2592720"/>
                <a:gd name="textAreaBottom" fmla="*/ 2501280 h 2592720"/>
              </a:gdLst>
              <a:ahLst/>
              <a:rect l="textAreaLeft" t="textAreaTop" r="textAreaRight" b="textAreaBottom"/>
              <a:pathLst>
                <a:path w="21600" h="29897">
                  <a:moveTo>
                    <a:pt x="3600" y="0"/>
                  </a:moveTo>
                  <a:arcTo wR="3600" hR="3600" stAng="16200000" swAng="-5400000"/>
                  <a:lnTo>
                    <a:pt x="0" y="26297"/>
                  </a:lnTo>
                  <a:arcTo wR="3600" hR="3600" stAng="10800000" swAng="-5400000"/>
                  <a:lnTo>
                    <a:pt x="18000" y="298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-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Утрення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гимнастика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-Физкультурн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занятия;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-Подвижн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игры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Физминутки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Гимнастика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осле сна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альчикова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гимнастика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33cc"/>
                  </a:solidFill>
                  <a:latin typeface="Arial"/>
                </a:rPr>
                <a:t>и т.д</a:t>
              </a: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1033"/>
            <p:cNvSpPr/>
            <p:nvPr/>
          </p:nvSpPr>
          <p:spPr>
            <a:xfrm>
              <a:off x="3007440" y="3355560"/>
              <a:ext cx="1801440" cy="2592720"/>
            </a:xfrm>
            <a:custGeom>
              <a:avLst/>
              <a:gdLst>
                <a:gd name="textAreaLeft" fmla="*/ 87840 w 1801440"/>
                <a:gd name="textAreaRight" fmla="*/ 1713600 w 1801440"/>
                <a:gd name="textAreaTop" fmla="*/ 87840 h 2592720"/>
                <a:gd name="textAreaBottom" fmla="*/ 2504880 h 2592720"/>
              </a:gdLst>
              <a:ahLst/>
              <a:rect l="textAreaLeft" t="textAreaTop" r="textAreaRight" b="textAreaBottom"/>
              <a:pathLst>
                <a:path w="21600" h="31086">
                  <a:moveTo>
                    <a:pt x="3600" y="0"/>
                  </a:moveTo>
                  <a:arcTo wR="3600" hR="3600" stAng="16200000" swAng="-5400000"/>
                  <a:lnTo>
                    <a:pt x="0" y="27486"/>
                  </a:lnTo>
                  <a:arcTo wR="3600" hR="3600" stAng="10800000" swAng="-5400000"/>
                  <a:lnTo>
                    <a:pt x="18000" y="3108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33cc"/>
                  </a:solidFill>
                  <a:latin typeface="Arial"/>
                </a:rPr>
                <a:t>Профилакти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33cc"/>
                  </a:solidFill>
                  <a:latin typeface="Arial"/>
                </a:rPr>
                <a:t>(лечебно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33cc"/>
                  </a:solidFill>
                  <a:latin typeface="Arial"/>
                </a:rPr>
                <a:t>профилактическ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33cc"/>
                  </a:solidFill>
                  <a:latin typeface="Arial"/>
                </a:rPr>
                <a:t>процедуры)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33cc"/>
                  </a:solidFill>
                  <a:latin typeface="Arial"/>
                </a:rPr>
                <a:t>Адаптогены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33cc"/>
                  </a:solidFill>
                  <a:latin typeface="Arial"/>
                </a:rPr>
                <a:t>-Фитотерапия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33cc"/>
                  </a:solidFill>
                  <a:latin typeface="Arial"/>
                </a:rPr>
                <a:t>-Ароматерапия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033"/>
            <p:cNvSpPr/>
            <p:nvPr/>
          </p:nvSpPr>
          <p:spPr>
            <a:xfrm>
              <a:off x="5313960" y="3355560"/>
              <a:ext cx="1762920" cy="2592720"/>
            </a:xfrm>
            <a:custGeom>
              <a:avLst/>
              <a:gdLst>
                <a:gd name="textAreaLeft" fmla="*/ 86040 w 1762920"/>
                <a:gd name="textAreaRight" fmla="*/ 1676880 w 1762920"/>
                <a:gd name="textAreaTop" fmla="*/ 86040 h 2592720"/>
                <a:gd name="textAreaBottom" fmla="*/ 2506680 h 2592720"/>
              </a:gdLst>
              <a:ahLst/>
              <a:rect l="textAreaLeft" t="textAreaTop" r="textAreaRight" b="textAreaBottom"/>
              <a:pathLst>
                <a:path w="21600" h="31765">
                  <a:moveTo>
                    <a:pt x="3600" y="0"/>
                  </a:moveTo>
                  <a:arcTo wR="3600" hR="3600" stAng="16200000" swAng="-5400000"/>
                  <a:lnTo>
                    <a:pt x="0" y="28165"/>
                  </a:lnTo>
                  <a:arcTo wR="3600" hR="3600" stAng="10800000" swAng="-5400000"/>
                  <a:lnTo>
                    <a:pt x="18000" y="3176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33cc"/>
                  </a:solidFill>
                  <a:uFillTx/>
                  <a:latin typeface="Arial"/>
                </a:rPr>
                <a:t>В повседневно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33cc"/>
                  </a:solidFill>
                  <a:uFillTx/>
                  <a:latin typeface="Arial"/>
                </a:rPr>
                <a:t> </a:t>
              </a:r>
              <a:r>
                <a:rPr b="1" lang="en-US" sz="1400" spc="-1" strike="noStrike" u="sng">
                  <a:solidFill>
                    <a:srgbClr val="0033cc"/>
                  </a:solidFill>
                  <a:uFillTx/>
                  <a:latin typeface="Arial"/>
                </a:rPr>
                <a:t>жизни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-Облегченна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форм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дежды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-Сон с доступо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воздуха и т.д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33cc"/>
                  </a:solidFill>
                  <a:uFillTx/>
                  <a:latin typeface="Arial"/>
                </a:rPr>
                <a:t>Специальн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33cc"/>
                  </a:solidFill>
                  <a:uFillTx/>
                  <a:latin typeface="Arial"/>
                </a:rPr>
                <a:t> </a:t>
              </a:r>
              <a:r>
                <a:rPr b="1" lang="en-US" sz="1400" spc="-1" strike="noStrike" u="sng">
                  <a:solidFill>
                    <a:srgbClr val="0033cc"/>
                  </a:solidFill>
                  <a:uFillTx/>
                  <a:latin typeface="Arial"/>
                </a:rPr>
                <a:t>организованные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олоскани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горл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тварами трав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1033"/>
            <p:cNvSpPr/>
            <p:nvPr/>
          </p:nvSpPr>
          <p:spPr>
            <a:xfrm>
              <a:off x="7464240" y="3355560"/>
              <a:ext cx="1774440" cy="2592720"/>
            </a:xfrm>
            <a:custGeom>
              <a:avLst/>
              <a:gdLst>
                <a:gd name="textAreaLeft" fmla="*/ 86400 w 1774440"/>
                <a:gd name="textAreaRight" fmla="*/ 1688040 w 1774440"/>
                <a:gd name="textAreaTop" fmla="*/ 86400 h 2592720"/>
                <a:gd name="textAreaBottom" fmla="*/ 2506320 h 2592720"/>
              </a:gdLst>
              <a:ahLst/>
              <a:rect l="textAreaLeft" t="textAreaTop" r="textAreaRight" b="textAreaBottom"/>
              <a:pathLst>
                <a:path w="21600" h="31559">
                  <a:moveTo>
                    <a:pt x="3600" y="0"/>
                  </a:moveTo>
                  <a:arcTo wR="3600" hR="3600" stAng="16200000" swAng="-5400000"/>
                  <a:lnTo>
                    <a:pt x="0" y="27959"/>
                  </a:lnTo>
                  <a:arcTo wR="3600" hR="3600" stAng="10800000" swAng="-5400000"/>
                  <a:lnTo>
                    <a:pt x="18000" y="3155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одвижные игры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Дни здоровья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Спортивн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раздники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досуги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028"/>
            <p:cNvSpPr/>
            <p:nvPr/>
          </p:nvSpPr>
          <p:spPr>
            <a:xfrm>
              <a:off x="773280" y="692280"/>
              <a:ext cx="8374320" cy="986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Arial"/>
                </a:rPr>
                <a:t>Система воспитательно-образовательной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Arial"/>
                </a:rPr>
                <a:t>оздоровительной и профилактической рабо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1496880" y="1916280"/>
            <a:ext cx="684072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016520" y="1916280"/>
            <a:ext cx="0" cy="2156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96880" y="1916280"/>
            <a:ext cx="0" cy="2156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337600" y="1916280"/>
            <a:ext cx="0" cy="2156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76880" y="1916280"/>
            <a:ext cx="0" cy="21564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76880" y="3068640"/>
            <a:ext cx="0" cy="216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96880" y="3068640"/>
            <a:ext cx="0" cy="216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73600" y="3068640"/>
            <a:ext cx="0" cy="216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337600" y="3068640"/>
            <a:ext cx="0" cy="216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024520" y="1700280"/>
            <a:ext cx="0" cy="216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200160" y="333360"/>
            <a:ext cx="9505800" cy="214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200160" y="333360"/>
            <a:ext cx="9289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«Детский сад «Солнышко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_s1028"/>
          <p:cNvSpPr/>
          <p:nvPr/>
        </p:nvSpPr>
        <p:spPr>
          <a:xfrm>
            <a:off x="773280" y="692280"/>
            <a:ext cx="8375400" cy="985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рганизационно-методическое и материа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еспечение оздоровления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343440" y="692280"/>
            <a:ext cx="9362160" cy="5256000"/>
            <a:chOff x="343440" y="692280"/>
            <a:chExt cx="9362160" cy="5256000"/>
          </a:xfrm>
        </p:grpSpPr>
        <p:sp>
          <p:nvSpPr>
            <p:cNvPr id="124" name="_s1033"/>
            <p:cNvSpPr/>
            <p:nvPr/>
          </p:nvSpPr>
          <p:spPr>
            <a:xfrm>
              <a:off x="7567200" y="2200320"/>
              <a:ext cx="1920600" cy="804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Семь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1033"/>
            <p:cNvSpPr/>
            <p:nvPr/>
          </p:nvSpPr>
          <p:spPr>
            <a:xfrm>
              <a:off x="3369600" y="2200320"/>
              <a:ext cx="3461400" cy="792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Оздоровительная работ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1033"/>
            <p:cNvSpPr/>
            <p:nvPr/>
          </p:nvSpPr>
          <p:spPr>
            <a:xfrm>
              <a:off x="561240" y="2200320"/>
              <a:ext cx="1990800" cy="813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Педагоги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медперсона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1033"/>
            <p:cNvSpPr/>
            <p:nvPr/>
          </p:nvSpPr>
          <p:spPr>
            <a:xfrm>
              <a:off x="7864560" y="3355560"/>
              <a:ext cx="1841040" cy="1437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Анкетирован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Дни здоровь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Собра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Совместны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мероприят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1028"/>
            <p:cNvSpPr/>
            <p:nvPr/>
          </p:nvSpPr>
          <p:spPr>
            <a:xfrm>
              <a:off x="786600" y="692280"/>
              <a:ext cx="8569080" cy="986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0000"/>
                  </a:solidFill>
                  <a:latin typeface="Arial"/>
                </a:rPr>
                <a:t>Система</a:t>
              </a:r>
              <a:r>
                <a:rPr b="1" lang="en-US" sz="2400" spc="-1" strike="noStrike">
                  <a:solidFill>
                    <a:srgbClr val="9900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990000"/>
                  </a:solidFill>
                  <a:latin typeface="Arial"/>
                </a:rPr>
                <a:t>работы  по формировани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00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990000"/>
                  </a:solidFill>
                  <a:latin typeface="Arial"/>
                </a:rPr>
                <a:t>представлений и навыков здорового образа жизн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0000"/>
                  </a:solidFill>
                  <a:latin typeface="Arial"/>
                </a:rPr>
                <a:t>у воспитанников  ДО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1033"/>
            <p:cNvSpPr/>
            <p:nvPr/>
          </p:nvSpPr>
          <p:spPr>
            <a:xfrm>
              <a:off x="1379160" y="5153400"/>
              <a:ext cx="7462080" cy="794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Воспитанники ДО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1033"/>
            <p:cNvSpPr/>
            <p:nvPr/>
          </p:nvSpPr>
          <p:spPr>
            <a:xfrm>
              <a:off x="343440" y="3355560"/>
              <a:ext cx="1880280" cy="1426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- Изучени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программ инновац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Планирование  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проведени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оздоровительных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мероприятий, бесед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- Оборудование сред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1033"/>
            <p:cNvSpPr/>
            <p:nvPr/>
          </p:nvSpPr>
          <p:spPr>
            <a:xfrm>
              <a:off x="3369600" y="3718080"/>
              <a:ext cx="3459240" cy="792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5050"/>
                  </a:solidFill>
                  <a:latin typeface="Arial"/>
                </a:rPr>
                <a:t>ШКОЛА     ЗДОРОВЬ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(</a:t>
              </a: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Консультирование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cc"/>
                  </a:solidFill>
                  <a:latin typeface="Arial"/>
                </a:rPr>
                <a:t>беседы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33cc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8624880" y="2997360"/>
            <a:ext cx="0" cy="3603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00160" y="333360"/>
            <a:ext cx="9505800" cy="214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200160" y="333360"/>
            <a:ext cx="9289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«Детский сад «Солнышко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24520" y="2565360"/>
            <a:ext cx="719280" cy="1800"/>
          </a:xfrm>
          <a:prstGeom prst="line">
            <a:avLst/>
          </a:prstGeom>
          <a:ln w="2232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76520" y="2565360"/>
            <a:ext cx="792000" cy="1800"/>
          </a:xfrm>
          <a:prstGeom prst="line">
            <a:avLst/>
          </a:prstGeom>
          <a:ln w="2232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96880" y="2997360"/>
            <a:ext cx="0" cy="3603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24520" y="4076640"/>
            <a:ext cx="10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16160" y="4076640"/>
            <a:ext cx="1152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553600" y="4797360"/>
            <a:ext cx="0" cy="3603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68520" y="4797360"/>
            <a:ext cx="0" cy="3603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7"/>
          <p:cNvSpPr/>
          <p:nvPr/>
        </p:nvSpPr>
        <p:spPr>
          <a:xfrm>
            <a:off x="200160" y="642960"/>
            <a:ext cx="9505800" cy="8254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Система контроля работы ДО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по сохранению и укреплению здоровья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200160" y="333360"/>
            <a:ext cx="9505800" cy="214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200160" y="333360"/>
            <a:ext cx="9289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«Детский сад «Солнышко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930240" y="1776600"/>
            <a:ext cx="8011080" cy="4179600"/>
            <a:chOff x="930240" y="1776600"/>
            <a:chExt cx="8011080" cy="4179600"/>
          </a:xfrm>
        </p:grpSpPr>
        <p:sp>
          <p:nvSpPr>
            <p:cNvPr id="146" name="_s43061"/>
            <p:cNvSpPr/>
            <p:nvPr/>
          </p:nvSpPr>
          <p:spPr>
            <a:xfrm flipH="1" flipV="1">
              <a:off x="3335760" y="3268800"/>
              <a:ext cx="802440" cy="3387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_s43060"/>
            <p:cNvSpPr/>
            <p:nvPr/>
          </p:nvSpPr>
          <p:spPr>
            <a:xfrm>
              <a:off x="1519920" y="2390040"/>
              <a:ext cx="2041560" cy="108504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Территори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детского сад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43059"/>
            <p:cNvSpPr/>
            <p:nvPr/>
          </p:nvSpPr>
          <p:spPr>
            <a:xfrm flipH="1">
              <a:off x="2941560" y="4065120"/>
              <a:ext cx="998280" cy="1231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43058"/>
            <p:cNvSpPr/>
            <p:nvPr/>
          </p:nvSpPr>
          <p:spPr>
            <a:xfrm>
              <a:off x="930240" y="3768120"/>
              <a:ext cx="2041560" cy="108504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рганизац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детског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ита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43065"/>
            <p:cNvSpPr/>
            <p:nvPr/>
          </p:nvSpPr>
          <p:spPr>
            <a:xfrm flipH="1">
              <a:off x="4048200" y="4432680"/>
              <a:ext cx="441720" cy="490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43064"/>
            <p:cNvSpPr/>
            <p:nvPr/>
          </p:nvSpPr>
          <p:spPr>
            <a:xfrm>
              <a:off x="2589840" y="4871160"/>
              <a:ext cx="2042280" cy="108504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рганизац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и провед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ремонтны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рабо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_s43063"/>
            <p:cNvSpPr/>
            <p:nvPr/>
          </p:nvSpPr>
          <p:spPr>
            <a:xfrm>
              <a:off x="5374800" y="4432680"/>
              <a:ext cx="444600" cy="490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43062"/>
            <p:cNvSpPr/>
            <p:nvPr/>
          </p:nvSpPr>
          <p:spPr>
            <a:xfrm>
              <a:off x="5245560" y="4869360"/>
              <a:ext cx="2041560" cy="10854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здоровительна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работ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43057"/>
            <p:cNvSpPr/>
            <p:nvPr/>
          </p:nvSpPr>
          <p:spPr>
            <a:xfrm>
              <a:off x="5925240" y="4066920"/>
              <a:ext cx="998280" cy="1195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_s43056"/>
            <p:cNvSpPr/>
            <p:nvPr/>
          </p:nvSpPr>
          <p:spPr>
            <a:xfrm>
              <a:off x="6899760" y="3764880"/>
              <a:ext cx="2041560" cy="108504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ерсона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43055"/>
            <p:cNvSpPr/>
            <p:nvPr/>
          </p:nvSpPr>
          <p:spPr>
            <a:xfrm flipV="1">
              <a:off x="5729400" y="3268800"/>
              <a:ext cx="799560" cy="3387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_s43054"/>
            <p:cNvSpPr/>
            <p:nvPr/>
          </p:nvSpPr>
          <p:spPr>
            <a:xfrm>
              <a:off x="6307200" y="2388240"/>
              <a:ext cx="2041560" cy="10854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рганизац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учебно 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воспитательног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роцесс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_s43053"/>
            <p:cNvSpPr/>
            <p:nvPr/>
          </p:nvSpPr>
          <p:spPr>
            <a:xfrm flipV="1">
              <a:off x="4933080" y="2859840"/>
              <a:ext cx="0" cy="5450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43052"/>
            <p:cNvSpPr/>
            <p:nvPr/>
          </p:nvSpPr>
          <p:spPr>
            <a:xfrm>
              <a:off x="3913560" y="1776600"/>
              <a:ext cx="2041560" cy="108504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омещения д/с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связанн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с пребывание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детей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43051"/>
            <p:cNvSpPr/>
            <p:nvPr/>
          </p:nvSpPr>
          <p:spPr>
            <a:xfrm>
              <a:off x="3913560" y="3405240"/>
              <a:ext cx="2041560" cy="108504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5050"/>
                  </a:solidFill>
                  <a:latin typeface="Arial"/>
                </a:rPr>
                <a:t>Контролируемы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5050"/>
                  </a:solidFill>
                  <a:latin typeface="Arial"/>
                </a:rPr>
                <a:t>материа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3"/>
          <p:cNvSpPr/>
          <p:nvPr/>
        </p:nvSpPr>
        <p:spPr>
          <a:xfrm>
            <a:off x="200160" y="333360"/>
            <a:ext cx="9505800" cy="214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200160" y="333360"/>
            <a:ext cx="9289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«Детский сад «Солнышко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200160" y="620640"/>
            <a:ext cx="9505800" cy="459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Контроль организации учебно-воспитательного про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270800" y="1548000"/>
            <a:ext cx="7509240" cy="5172480"/>
            <a:chOff x="1270800" y="1548000"/>
            <a:chExt cx="7509240" cy="5172480"/>
          </a:xfrm>
        </p:grpSpPr>
        <p:sp>
          <p:nvSpPr>
            <p:cNvPr id="165" name="_s54297"/>
            <p:cNvSpPr/>
            <p:nvPr/>
          </p:nvSpPr>
          <p:spPr>
            <a:xfrm flipH="1" flipV="1">
              <a:off x="3213360" y="3487320"/>
              <a:ext cx="910080" cy="32544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54298"/>
            <p:cNvSpPr/>
            <p:nvPr/>
          </p:nvSpPr>
          <p:spPr>
            <a:xfrm>
              <a:off x="1270800" y="2519640"/>
              <a:ext cx="2087280" cy="129348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Длительнос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занят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(перерывов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_s54299"/>
            <p:cNvSpPr/>
            <p:nvPr/>
          </p:nvSpPr>
          <p:spPr>
            <a:xfrm flipH="1">
              <a:off x="3216960" y="4457520"/>
              <a:ext cx="909360" cy="32544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54300"/>
            <p:cNvSpPr/>
            <p:nvPr/>
          </p:nvSpPr>
          <p:spPr>
            <a:xfrm>
              <a:off x="1274400" y="4458960"/>
              <a:ext cx="2086920" cy="129348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Соблюд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режимны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момент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54301"/>
            <p:cNvSpPr/>
            <p:nvPr/>
          </p:nvSpPr>
          <p:spPr>
            <a:xfrm>
              <a:off x="5027040" y="4777200"/>
              <a:ext cx="0" cy="65160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54302"/>
            <p:cNvSpPr/>
            <p:nvPr/>
          </p:nvSpPr>
          <p:spPr>
            <a:xfrm>
              <a:off x="3985200" y="5427000"/>
              <a:ext cx="2086920" cy="129348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цен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едагогическо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диагности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54303"/>
            <p:cNvSpPr/>
            <p:nvPr/>
          </p:nvSpPr>
          <p:spPr>
            <a:xfrm>
              <a:off x="5924880" y="4455360"/>
              <a:ext cx="909360" cy="32400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54304"/>
            <p:cNvSpPr/>
            <p:nvPr/>
          </p:nvSpPr>
          <p:spPr>
            <a:xfrm>
              <a:off x="6693120" y="4457520"/>
              <a:ext cx="2086920" cy="129348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Налич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здоровьесберегающи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момент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в ходе занят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54305"/>
            <p:cNvSpPr/>
            <p:nvPr/>
          </p:nvSpPr>
          <p:spPr>
            <a:xfrm flipV="1">
              <a:off x="5924880" y="3485880"/>
              <a:ext cx="906840" cy="32544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54306"/>
            <p:cNvSpPr/>
            <p:nvPr/>
          </p:nvSpPr>
          <p:spPr>
            <a:xfrm>
              <a:off x="6693120" y="2517480"/>
              <a:ext cx="2086920" cy="129384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ценк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сет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занятий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54307"/>
            <p:cNvSpPr/>
            <p:nvPr/>
          </p:nvSpPr>
          <p:spPr>
            <a:xfrm flipV="1">
              <a:off x="5024520" y="2839320"/>
              <a:ext cx="0" cy="64908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_s54308"/>
            <p:cNvSpPr/>
            <p:nvPr/>
          </p:nvSpPr>
          <p:spPr>
            <a:xfrm>
              <a:off x="3982320" y="1548000"/>
              <a:ext cx="2086920" cy="129348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ланирова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воспитательно 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бразовательной 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здоровительно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работ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54309"/>
            <p:cNvSpPr/>
            <p:nvPr/>
          </p:nvSpPr>
          <p:spPr>
            <a:xfrm>
              <a:off x="3982320" y="3489120"/>
              <a:ext cx="2086920" cy="129384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0000"/>
                  </a:solidFill>
                  <a:latin typeface="Arial"/>
                </a:rPr>
                <a:t>Показатели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0000"/>
                  </a:solidFill>
                  <a:latin typeface="Arial"/>
                </a:rPr>
                <a:t>контроля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3"/>
          <p:cNvSpPr/>
          <p:nvPr/>
        </p:nvSpPr>
        <p:spPr>
          <a:xfrm>
            <a:off x="200160" y="333360"/>
            <a:ext cx="9505800" cy="214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200160" y="333360"/>
            <a:ext cx="9289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«Детский сад «Солнышко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272880" y="642960"/>
            <a:ext cx="9433080" cy="459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Контроль оздоровительной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702080" y="1675080"/>
            <a:ext cx="6648120" cy="4513320"/>
            <a:chOff x="1702080" y="1675080"/>
            <a:chExt cx="6648120" cy="4513320"/>
          </a:xfrm>
        </p:grpSpPr>
        <p:sp>
          <p:nvSpPr>
            <p:cNvPr id="182" name="_s55319"/>
            <p:cNvSpPr/>
            <p:nvPr/>
          </p:nvSpPr>
          <p:spPr>
            <a:xfrm flipH="1" flipV="1">
              <a:off x="3422160" y="3367080"/>
              <a:ext cx="805680" cy="28404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55320"/>
            <p:cNvSpPr/>
            <p:nvPr/>
          </p:nvSpPr>
          <p:spPr>
            <a:xfrm>
              <a:off x="1702080" y="2522880"/>
              <a:ext cx="1847880" cy="11286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Анализ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осещаемос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детьми д/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_s55321"/>
            <p:cNvSpPr/>
            <p:nvPr/>
          </p:nvSpPr>
          <p:spPr>
            <a:xfrm flipH="1">
              <a:off x="3425040" y="4213800"/>
              <a:ext cx="804960" cy="28404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55322"/>
            <p:cNvSpPr/>
            <p:nvPr/>
          </p:nvSpPr>
          <p:spPr>
            <a:xfrm>
              <a:off x="1705320" y="4215240"/>
              <a:ext cx="1847520" cy="11286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Анализ 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эффективнос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здоровительно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работ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55323"/>
            <p:cNvSpPr/>
            <p:nvPr/>
          </p:nvSpPr>
          <p:spPr>
            <a:xfrm>
              <a:off x="5027760" y="4492800"/>
              <a:ext cx="0" cy="56880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55324"/>
            <p:cNvSpPr/>
            <p:nvPr/>
          </p:nvSpPr>
          <p:spPr>
            <a:xfrm>
              <a:off x="4105080" y="5059800"/>
              <a:ext cx="1847520" cy="11286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Реализац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«Программ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здоровл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детей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_s55325"/>
            <p:cNvSpPr/>
            <p:nvPr/>
          </p:nvSpPr>
          <p:spPr>
            <a:xfrm>
              <a:off x="5822640" y="4212000"/>
              <a:ext cx="804960" cy="28260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55326"/>
            <p:cNvSpPr/>
            <p:nvPr/>
          </p:nvSpPr>
          <p:spPr>
            <a:xfrm>
              <a:off x="6502680" y="4213800"/>
              <a:ext cx="1847520" cy="11286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Выполн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лечебно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рофилактически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роцеду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_s55327"/>
            <p:cNvSpPr/>
            <p:nvPr/>
          </p:nvSpPr>
          <p:spPr>
            <a:xfrm flipV="1">
              <a:off x="5822640" y="3365640"/>
              <a:ext cx="802800" cy="28404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_s55328"/>
            <p:cNvSpPr/>
            <p:nvPr/>
          </p:nvSpPr>
          <p:spPr>
            <a:xfrm>
              <a:off x="6502680" y="2521080"/>
              <a:ext cx="1847520" cy="112896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Анализ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заболеваемости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детей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55329"/>
            <p:cNvSpPr/>
            <p:nvPr/>
          </p:nvSpPr>
          <p:spPr>
            <a:xfrm flipV="1">
              <a:off x="5025240" y="2801880"/>
              <a:ext cx="0" cy="56628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_s55330"/>
            <p:cNvSpPr/>
            <p:nvPr/>
          </p:nvSpPr>
          <p:spPr>
            <a:xfrm>
              <a:off x="4102560" y="1675080"/>
              <a:ext cx="1847520" cy="11286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Выполн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здоровительны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мероприят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_s55331"/>
            <p:cNvSpPr/>
            <p:nvPr/>
          </p:nvSpPr>
          <p:spPr>
            <a:xfrm>
              <a:off x="4102560" y="3368880"/>
              <a:ext cx="1847520" cy="112896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0000"/>
                  </a:solidFill>
                  <a:latin typeface="Arial"/>
                </a:rPr>
                <a:t>Показатели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0000"/>
                  </a:solidFill>
                  <a:latin typeface="Arial"/>
                </a:rPr>
                <a:t>контроля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3"/>
          <p:cNvSpPr/>
          <p:nvPr/>
        </p:nvSpPr>
        <p:spPr>
          <a:xfrm>
            <a:off x="200160" y="333360"/>
            <a:ext cx="9505800" cy="214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200160" y="333360"/>
            <a:ext cx="9289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«Детский сад «Солнышко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272880" y="642960"/>
            <a:ext cx="9433080" cy="459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Контроль организации детского пит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1332720" y="1675080"/>
            <a:ext cx="7387560" cy="4513320"/>
            <a:chOff x="1332720" y="1675080"/>
            <a:chExt cx="7387560" cy="4513320"/>
          </a:xfrm>
        </p:grpSpPr>
        <p:sp>
          <p:nvSpPr>
            <p:cNvPr id="199" name="_s56343"/>
            <p:cNvSpPr/>
            <p:nvPr/>
          </p:nvSpPr>
          <p:spPr>
            <a:xfrm flipH="1" flipV="1">
              <a:off x="3718800" y="3132720"/>
              <a:ext cx="655920" cy="40068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_s56344"/>
            <p:cNvSpPr/>
            <p:nvPr/>
          </p:nvSpPr>
          <p:spPr>
            <a:xfrm>
              <a:off x="2143440" y="2170440"/>
              <a:ext cx="1847520" cy="11286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Режи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ита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_s56345"/>
            <p:cNvSpPr/>
            <p:nvPr/>
          </p:nvSpPr>
          <p:spPr>
            <a:xfrm flipH="1">
              <a:off x="3177000" y="3931200"/>
              <a:ext cx="928080" cy="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_s56346"/>
            <p:cNvSpPr/>
            <p:nvPr/>
          </p:nvSpPr>
          <p:spPr>
            <a:xfrm>
              <a:off x="1332720" y="3367440"/>
              <a:ext cx="1847520" cy="11286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Санитарно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ротиво 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эпидемиологическ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режи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_s56347"/>
            <p:cNvSpPr/>
            <p:nvPr/>
          </p:nvSpPr>
          <p:spPr>
            <a:xfrm flipH="1">
              <a:off x="3718800" y="4328640"/>
              <a:ext cx="655920" cy="40068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_s56348"/>
            <p:cNvSpPr/>
            <p:nvPr/>
          </p:nvSpPr>
          <p:spPr>
            <a:xfrm>
              <a:off x="2143440" y="4564440"/>
              <a:ext cx="1847520" cy="112860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беспеченнос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осудой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инвентарем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дез. средствам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_s56349"/>
            <p:cNvSpPr/>
            <p:nvPr/>
          </p:nvSpPr>
          <p:spPr>
            <a:xfrm>
              <a:off x="5025240" y="4492800"/>
              <a:ext cx="0" cy="56664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_s56350"/>
            <p:cNvSpPr/>
            <p:nvPr/>
          </p:nvSpPr>
          <p:spPr>
            <a:xfrm>
              <a:off x="4102560" y="5059800"/>
              <a:ext cx="1847520" cy="11286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Техническа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исправност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оборудования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инвентар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_s56351"/>
            <p:cNvSpPr/>
            <p:nvPr/>
          </p:nvSpPr>
          <p:spPr>
            <a:xfrm>
              <a:off x="5675760" y="4328640"/>
              <a:ext cx="655200" cy="40068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_s56352"/>
            <p:cNvSpPr/>
            <p:nvPr/>
          </p:nvSpPr>
          <p:spPr>
            <a:xfrm>
              <a:off x="6062040" y="4564440"/>
              <a:ext cx="1847520" cy="11286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ерсона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56353"/>
            <p:cNvSpPr/>
            <p:nvPr/>
          </p:nvSpPr>
          <p:spPr>
            <a:xfrm>
              <a:off x="5944680" y="3931200"/>
              <a:ext cx="928080" cy="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_s56354"/>
            <p:cNvSpPr/>
            <p:nvPr/>
          </p:nvSpPr>
          <p:spPr>
            <a:xfrm>
              <a:off x="6872760" y="3367440"/>
              <a:ext cx="1847520" cy="11286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родукт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итания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_s56355"/>
            <p:cNvSpPr/>
            <p:nvPr/>
          </p:nvSpPr>
          <p:spPr>
            <a:xfrm flipV="1">
              <a:off x="5675760" y="3132720"/>
              <a:ext cx="655200" cy="40068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56356"/>
            <p:cNvSpPr/>
            <p:nvPr/>
          </p:nvSpPr>
          <p:spPr>
            <a:xfrm>
              <a:off x="6062040" y="2170440"/>
              <a:ext cx="1847520" cy="11286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Технолог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роизводств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ищи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_s56357"/>
            <p:cNvSpPr/>
            <p:nvPr/>
          </p:nvSpPr>
          <p:spPr>
            <a:xfrm flipV="1">
              <a:off x="5025240" y="2801880"/>
              <a:ext cx="0" cy="56628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56358"/>
            <p:cNvSpPr/>
            <p:nvPr/>
          </p:nvSpPr>
          <p:spPr>
            <a:xfrm>
              <a:off x="4102560" y="1675080"/>
              <a:ext cx="1847520" cy="112860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Рацио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пита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_s56359"/>
            <p:cNvSpPr/>
            <p:nvPr/>
          </p:nvSpPr>
          <p:spPr>
            <a:xfrm>
              <a:off x="4102560" y="3368880"/>
              <a:ext cx="1847520" cy="1128960"/>
            </a:xfrm>
            <a:prstGeom prst="ellipse">
              <a:avLst/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0000"/>
                  </a:solidFill>
                  <a:latin typeface="Arial"/>
                </a:rPr>
                <a:t>Показатели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0000"/>
                  </a:solidFill>
                  <a:latin typeface="Arial"/>
                </a:rPr>
                <a:t>контроля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2T06:19:39Z</dcterms:created>
  <dc:creator>11</dc:creator>
  <dc:description/>
  <dc:language>en-US</dc:language>
  <cp:lastModifiedBy>777</cp:lastModifiedBy>
  <dcterms:modified xsi:type="dcterms:W3CDTF">2012-04-13T09:04:08Z</dcterms:modified>
  <cp:revision>401</cp:revision>
  <dc:subject/>
  <dc:title>Слайд 1</dc:title>
</cp:coreProperties>
</file>